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D68-ED45-499E-B241-A8F5ABAF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350-71DA-4C39-82A8-46DB4C6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8CF-332E-41D1-842B-173B31EB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CB1-4CA8-4068-AC02-A2D1EE79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C23-37CE-45CB-BA93-E4AB0F6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686-70C6-4CC5-A88A-41FDDB1D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1E0-4515-4751-96ED-9AFB6C79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AA5-EFFE-4B2A-8ED7-B3EC4BE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5E7-A8DE-4BE7-B7E4-3C2880C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B36-365F-401B-BE85-6B607B1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AF0-BED5-4330-AE24-140830D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9E4-2B2A-4BD9-9D2D-6644C25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F05-9A89-4763-947C-29918ADD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amlegends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m 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Cody R. Critch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some my prediction was right for some of my tester but for others it wa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it really doesn’t matter what hand you use its what ever is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d people play better with their left or their right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predict that they will play better with their left hand. Because they will not click on some thing with their wr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te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er( with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t player to 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legends.co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n have them read dir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xt tell then to click play if they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cip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nter Hew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gan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sh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stin M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d Dierk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yle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ley R. Far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y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ng And Difficult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me of the song that I chose is called; On The R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ifficulty is set on normal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ssible cause of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pendent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ing On The R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Normal 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on easy and just hitting the but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04:45Z</dcterms:created>
  <dc:creator>USD376</dc:creator>
  <dc:description/>
  <dc:language>en-US</dc:language>
  <cp:lastModifiedBy>USD376</cp:lastModifiedBy>
  <dcterms:modified xsi:type="dcterms:W3CDTF">2010-03-01T20:10:46Z</dcterms:modified>
  <cp:revision>7</cp:revision>
  <dc:subject/>
  <dc:title>  Jam Legends</dc:title>
</cp:coreProperties>
</file>